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881F9C-64C3-443F-A1C9-D9D81182C2B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D12EBF-F539-4CA9-823E-556FC27F34F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622D42-1129-454E-8407-60AD9F386D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662BB2-FFC4-46D5-B758-C80B7001C5D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551B1B-5790-495E-8FFE-9A97B4B95F7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4710FF-967D-49BC-9A68-85DBFB0CBD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39FD55-091A-4C98-A05E-34F29836A22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7F28C5-90EE-4FEC-8CEC-24F5BA8039C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941CEE-B40C-4984-A2B9-3DBC9E13EA4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C905E9-1794-4897-AD8A-9F55064923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20B9CC-A37D-442D-B6BF-0F92F25145C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F24EF4-E840-43CA-815A-838FCC57D50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226315-DD3E-4CC6-BEBD-3221C12FEC0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5B40CC-338C-4FB0-8FC6-D2EA66672E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A5162-8E4D-4459-9668-43D4569EF1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2235-E495-425C-A091-C57C227C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5730D-1716-48D6-AC59-42A288FA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0873-8AFB-40BD-A8A7-BD8C479658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1030-398D-4DF3-987B-8B397B97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EA42-709B-4874-8D06-39344EAC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81156-CF57-488A-9544-91AF8350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163A-3414-48D3-9D4A-D3F23A1D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997B-7E93-45E3-8776-86CFBDE5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2AC8E-CA00-4C5F-AC74-D3C18D2E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1B52-8AE9-41FB-9A73-CEAAB215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F36F-9AAF-4729-83B8-EF660CD0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BE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5CFC6C-40E9-4F5C-A353-21B8DBF16833}" type="slidenum">
              <a:rPr b="0" lang="fr-B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404640"/>
            <a:ext cx="7688160" cy="56372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6443640" y="836640"/>
            <a:ext cx="2016000" cy="1368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4 remarques sur cet exerc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796000" y="2133720"/>
            <a:ext cx="324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1- peu fonctionnel et surtout anatomiqu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2- limite programme car trop orienté anatomi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3- à transformer en compétence évaluée au BAC : QC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4- à transformer en compétence évaluée au BAC : Question de synthè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56360" y="5084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?? Pas de doc 1 ni de a et b 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6027840" cy="432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6588000" y="5805360"/>
            <a:ext cx="25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70c0"/>
                </a:solidFill>
                <a:latin typeface="Calibri"/>
              </a:rPr>
              <a:t>On n’est plus sur le fonctionnement cardiaq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program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u cours de l’effort un certain nombre de paramètres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hysiologiques sont modifiés : fréquence cardiaque,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volume d’éjection systolique (et donc débit cardiaque) ;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réquence ventilatoire et volume courant (et donc débit ventilatoire) ; pression artérielle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Ces modifications physiologiques permettent un meilleur approvisionnement des muscles en dioxygène et en nutriments. L’organisation anatomique facilite cet apport privilégié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404640"/>
            <a:ext cx="7956720" cy="583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79280" y="6308640"/>
            <a:ext cx="6027840" cy="4334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3"/>
          <p:cNvSpPr/>
          <p:nvPr/>
        </p:nvSpPr>
        <p:spPr>
          <a:xfrm>
            <a:off x="5580000" y="981000"/>
            <a:ext cx="1079640" cy="4896000"/>
          </a:xfrm>
          <a:custGeom>
            <a:avLst/>
            <a:gdLst>
              <a:gd name="textAreaLeft" fmla="*/ 0 w 1079640"/>
              <a:gd name="textAreaRight" fmla="*/ 389880 w 1079640"/>
              <a:gd name="textAreaTop" fmla="*/ 28080 h 4896000"/>
              <a:gd name="textAreaBottom" fmla="*/ 48679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9"/>
                  <a:pt x="10800" y="397"/>
                </a:cubicBezTo>
                <a:lnTo>
                  <a:pt x="10800" y="10403"/>
                </a:lnTo>
                <a:cubicBezTo>
                  <a:pt x="10800" y="10602"/>
                  <a:pt x="16200" y="10800"/>
                  <a:pt x="21600" y="10800"/>
                </a:cubicBezTo>
                <a:cubicBezTo>
                  <a:pt x="16200" y="10800"/>
                  <a:pt x="10800" y="10999"/>
                  <a:pt x="10800" y="11197"/>
                </a:cubicBezTo>
                <a:lnTo>
                  <a:pt x="10800" y="21203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443640" y="836640"/>
            <a:ext cx="122400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622920" y="765000"/>
            <a:ext cx="252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Question de synthèse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Indiquer les éléments qui permettent la mise en circulation du sang dans le cœu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0070c0"/>
                </a:solidFill>
                <a:latin typeface="Calibri"/>
              </a:rPr>
              <a:t>Votre réponse sera accompagnée d’un schéma fonctionnel du cœu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Eléments de réponse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Le muscle cardiaque, les cavités, les vaisseaux sanguins, les valvules et le sens de circulatio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716360" y="177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6732720" y="5877000"/>
            <a:ext cx="718920" cy="865080"/>
          </a:xfrm>
          <a:custGeom>
            <a:avLst/>
            <a:gdLst>
              <a:gd name="textAreaLeft" fmla="*/ 0 w 718920"/>
              <a:gd name="textAreaRight" fmla="*/ 259560 w 718920"/>
              <a:gd name="textAreaTop" fmla="*/ 18720 h 865080"/>
              <a:gd name="textAreaBottom" fmla="*/ 8463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0"/>
                  <a:pt x="10800" y="1500"/>
                </a:cubicBezTo>
                <a:lnTo>
                  <a:pt x="10800" y="9300"/>
                </a:lnTo>
                <a:cubicBezTo>
                  <a:pt x="10800" y="10050"/>
                  <a:pt x="16200" y="10800"/>
                  <a:pt x="21600" y="10800"/>
                </a:cubicBezTo>
                <a:cubicBezTo>
                  <a:pt x="16200" y="10800"/>
                  <a:pt x="10800" y="11550"/>
                  <a:pt x="10800" y="12300"/>
                </a:cubicBezTo>
                <a:lnTo>
                  <a:pt x="10800" y="20100"/>
                </a:lnTo>
                <a:cubicBezTo>
                  <a:pt x="10800" y="2085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7740720" y="609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QC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871560"/>
            <a:ext cx="909000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emple QC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68360" y="1341360"/>
            <a:ext cx="822960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 rapport à la situation de repos, l’irrigation des muscles actifs à l’effort est caractérisée par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une plus grande richesse en dioxygène du sang qui y arriv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. un débit multiplié par deux au maximu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une plus faible teneur en dioxygène du sang qui les quitte (sang veineux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4. Une plus forte teneur en CO2 du sang qui les quit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298440"/>
            <a:ext cx="6588000" cy="302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0" y="3268800"/>
            <a:ext cx="6443640" cy="3589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3"/>
          <p:cNvSpPr/>
          <p:nvPr/>
        </p:nvSpPr>
        <p:spPr>
          <a:xfrm>
            <a:off x="6732720" y="765000"/>
            <a:ext cx="431640" cy="2016360"/>
          </a:xfrm>
          <a:custGeom>
            <a:avLst/>
            <a:gdLst>
              <a:gd name="textAreaLeft" fmla="*/ 0 w 431640"/>
              <a:gd name="textAreaRight" fmla="*/ 155880 w 431640"/>
              <a:gd name="textAreaTop" fmla="*/ 11160 h 2016360"/>
              <a:gd name="textAreaBottom" fmla="*/ 20052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6"/>
                </a:cubicBezTo>
                <a:lnTo>
                  <a:pt x="10800" y="10414"/>
                </a:lnTo>
                <a:cubicBezTo>
                  <a:pt x="10800" y="10607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6"/>
                </a:cubicBezTo>
                <a:lnTo>
                  <a:pt x="10800" y="21214"/>
                </a:lnTo>
                <a:cubicBezTo>
                  <a:pt x="10800" y="2140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6732720" y="4365720"/>
            <a:ext cx="431640" cy="2016000"/>
          </a:xfrm>
          <a:custGeom>
            <a:avLst/>
            <a:gdLst>
              <a:gd name="textAreaLeft" fmla="*/ 0 w 431640"/>
              <a:gd name="textAreaRight" fmla="*/ 155880 w 431640"/>
              <a:gd name="textAreaTop" fmla="*/ 11160 h 2016000"/>
              <a:gd name="textAreaBottom" fmla="*/ 20048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6"/>
                </a:cubicBezTo>
                <a:lnTo>
                  <a:pt x="10800" y="10414"/>
                </a:lnTo>
                <a:cubicBezTo>
                  <a:pt x="10800" y="10607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6"/>
                </a:cubicBezTo>
                <a:lnTo>
                  <a:pt x="10800" y="21214"/>
                </a:lnTo>
                <a:cubicBezTo>
                  <a:pt x="10800" y="2140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6732720" y="2852640"/>
            <a:ext cx="431640" cy="1224000"/>
          </a:xfrm>
          <a:custGeom>
            <a:avLst/>
            <a:gdLst>
              <a:gd name="textAreaLeft" fmla="*/ 0 w 431640"/>
              <a:gd name="textAreaRight" fmla="*/ 155880 w 431640"/>
              <a:gd name="textAreaTop" fmla="*/ 11160 h 1224000"/>
              <a:gd name="textAreaBottom" fmla="*/ 12128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16200" y="10800"/>
                  <a:pt x="21600" y="10800"/>
                </a:cubicBezTo>
                <a:cubicBezTo>
                  <a:pt x="162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308720" y="148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308720" y="3284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Consign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7451640" y="5157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Oval 9"/>
          <p:cNvSpPr/>
          <p:nvPr/>
        </p:nvSpPr>
        <p:spPr>
          <a:xfrm>
            <a:off x="3419640" y="765000"/>
            <a:ext cx="2016000" cy="719280"/>
          </a:xfrm>
          <a:prstGeom prst="ellipse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843280" y="260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doc de référence afin de localiser les structur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2484360" y="404640"/>
            <a:ext cx="432000" cy="2160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1692360" y="2924280"/>
            <a:ext cx="3527280" cy="433440"/>
          </a:xfrm>
          <a:prstGeom prst="ellipse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95280" y="263700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Vague…. Et devrait arriver après le b ce qui correspond au 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6276960" cy="2762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6515280" cy="1352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6778800" y="0"/>
            <a:ext cx="2365200" cy="1968480"/>
          </a:xfrm>
          <a:prstGeom prst="rect">
            <a:avLst/>
          </a:prstGeom>
          <a:ln w="0">
            <a:noFill/>
          </a:ln>
        </p:spPr>
      </p:pic>
      <p:cxnSp>
        <p:nvCxnSpPr>
          <p:cNvPr id="84" name="AutoShape 4"/>
          <p:cNvCxnSpPr/>
          <p:nvPr/>
        </p:nvCxnSpPr>
        <p:spPr>
          <a:xfrm flipH="1">
            <a:off x="7956000" y="1052640"/>
            <a:ext cx="503640" cy="21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5" name="Text Box 5"/>
          <p:cNvSpPr/>
          <p:nvPr/>
        </p:nvSpPr>
        <p:spPr>
          <a:xfrm>
            <a:off x="395280" y="472428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 partir de la description et de la mise en relation des informations extraites des documents, expliquer le rôle des sinus carotidie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51880" cy="34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123920" y="1057320"/>
            <a:ext cx="6894720" cy="47419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"/>
          <p:cNvSpPr/>
          <p:nvPr/>
        </p:nvSpPr>
        <p:spPr>
          <a:xfrm>
            <a:off x="1187280" y="4581360"/>
            <a:ext cx="360360" cy="863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863640"/>
              <a:gd name="textAreaBottom" fmla="*/ 8542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5"/>
                  <a:pt x="10800" y="750"/>
                </a:cubicBezTo>
                <a:lnTo>
                  <a:pt x="10800" y="10050"/>
                </a:lnTo>
                <a:cubicBezTo>
                  <a:pt x="10800" y="10425"/>
                  <a:pt x="5400" y="10800"/>
                  <a:pt x="0" y="10800"/>
                </a:cubicBezTo>
                <a:cubicBezTo>
                  <a:pt x="5400" y="10800"/>
                  <a:pt x="10800" y="11175"/>
                  <a:pt x="10800" y="11550"/>
                </a:cubicBezTo>
                <a:lnTo>
                  <a:pt x="10800" y="20850"/>
                </a:lnTo>
                <a:cubicBezTo>
                  <a:pt x="10800" y="2122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465300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 globalis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4"/>
          <p:cNvSpPr/>
          <p:nvPr/>
        </p:nvSpPr>
        <p:spPr>
          <a:xfrm flipH="1">
            <a:off x="7595640" y="5445000"/>
            <a:ext cx="360360" cy="576360"/>
          </a:xfrm>
          <a:custGeom>
            <a:avLst/>
            <a:gdLst>
              <a:gd name="textAreaLeft" fmla="*/ 230040 w 360360"/>
              <a:gd name="textAreaRight" fmla="*/ 360360 w 360360"/>
              <a:gd name="textAreaTop" fmla="*/ 9360 h 576360"/>
              <a:gd name="textAreaBottom" fmla="*/ 5670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3"/>
                  <a:pt x="10800" y="1125"/>
                </a:cubicBezTo>
                <a:lnTo>
                  <a:pt x="10800" y="9675"/>
                </a:lnTo>
                <a:cubicBezTo>
                  <a:pt x="10800" y="10238"/>
                  <a:pt x="5400" y="10800"/>
                  <a:pt x="0" y="10800"/>
                </a:cubicBezTo>
                <a:cubicBezTo>
                  <a:pt x="5400" y="10800"/>
                  <a:pt x="10800" y="11363"/>
                  <a:pt x="10800" y="11925"/>
                </a:cubicBezTo>
                <a:lnTo>
                  <a:pt x="10800" y="20475"/>
                </a:lnTo>
                <a:cubicBezTo>
                  <a:pt x="10800" y="2103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848720" y="5805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Hors programm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6012000" y="3284640"/>
            <a:ext cx="2881080" cy="1368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Un peu facile… et un exercice supplémentaire, contrôle trop lo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13:53:20Z</dcterms:created>
  <dc:creator>ikkoku</dc:creator>
  <dc:description/>
  <dc:language>en-US</dc:language>
  <cp:lastModifiedBy>ikkoku</cp:lastModifiedBy>
  <dcterms:modified xsi:type="dcterms:W3CDTF">2013-01-27T10:44:30Z</dcterms:modified>
  <cp:revision>8</cp:revision>
  <dc:subject/>
  <dc:title>Diapositive 1</dc:title>
</cp:coreProperties>
</file>